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21CF-7A9E-452C-B0D0-01F25B33B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F6A-DD2C-4265-8D93-6297B328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94D-0952-438C-A3D3-D75F386A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484-B683-4F33-99F3-2B72D00C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127-D598-40BB-B54D-F563FF31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013-E19F-4464-A589-65EC5408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960-BBBB-442C-ABC3-88A3FCAB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E48-2602-4643-AD55-7771F55C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DDC-CCE9-4E38-8B0E-208232DE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E5E-DF3C-45CA-9CE3-A878D611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7E9-717B-4390-983F-DABDB09A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5CD-85B7-42D9-817A-F07F07A4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AB3-2399-4A97-814A-F06B8F2E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BD11-E85A-4E8E-AE63-0F3886274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8-03-22T09:26:10Z</dcterms:modified>
  <cp:revision>135</cp:revision>
  <dc:subject/>
  <dc:title>PowerPoint Presentation</dc:title>
</cp:coreProperties>
</file>